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745-453E-48E2-9BDC-030D8A03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6F2-ABCD-4F29-965A-366CE07A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CF0-C3D1-4F72-A752-C66AD5FE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62C-71DC-4D93-8318-4F9C3A1D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0AC-CFFE-4460-9F29-6CA8F165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163-D0C8-465F-9283-D9494C9E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526-58BA-4B5A-9BEB-7BFD98F4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AEA-7869-4523-A39F-3A8BBCF0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274-FE82-40F6-8154-FA504BF5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666-F656-46D2-AD20-E14D2263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7A6-CFDF-4C57-AA30-12172115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50F-6CE1-4418-B9FE-F2381E5C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CC7A-470B-4E65-9121-94AB77E9B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2349000"/>
            <a:ext cx="6697800" cy="37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4392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16360" y="3645000"/>
            <a:ext cx="237636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92000">
            <a:off x="250560" y="2276640"/>
            <a:ext cx="2808360" cy="1439640"/>
          </a:xfrm>
          <a:prstGeom prst="rightArrow">
            <a:avLst>
              <a:gd name="adj1" fmla="val 50000"/>
              <a:gd name="adj2" fmla="val 48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1088800">
            <a:off x="250920" y="4221000"/>
            <a:ext cx="2808360" cy="1584360"/>
          </a:xfrm>
          <a:prstGeom prst="rightArrow">
            <a:avLst>
              <a:gd name="adj1" fmla="val 50000"/>
              <a:gd name="adj2" fmla="val 443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4149720"/>
            <a:ext cx="2232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219640" y="2060640"/>
            <a:ext cx="1008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3280" y="1557000"/>
            <a:ext cx="720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692280"/>
            <a:ext cx="201456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227640" y="1557360"/>
            <a:ext cx="122256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ù 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435640" y="3644640"/>
            <a:ext cx="23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5445000"/>
            <a:ext cx="1548000" cy="1008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5080" y="3357720"/>
            <a:ext cx="12589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940360" y="6093000"/>
            <a:ext cx="144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5734080"/>
            <a:ext cx="1942920" cy="1123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à multi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12:31Z</dcterms:created>
  <dc:creator>studente</dc:creator>
  <dc:description/>
  <dc:language>en-US</dc:language>
  <cp:lastModifiedBy>studente</cp:lastModifiedBy>
  <dcterms:modified xsi:type="dcterms:W3CDTF">2016-12-05T08:52:01Z</dcterms:modified>
  <cp:revision>7</cp:revision>
  <dc:subject/>
  <dc:title>Diapositiva 1</dc:title>
</cp:coreProperties>
</file>